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466-6361-451A-9804-D901A947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4EE-BFB4-45F4-A031-79F71167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904-3258-465C-982B-1F82EEC1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24A-E928-457E-A73D-8DAE5F52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830-40D5-424F-96C0-91739627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E23-CBFC-4244-8E52-8BCDF0D1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2B6-1D9A-4B0F-807B-BA8D2096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94D-8457-4B87-AA1E-55DB32C3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302-50FE-44B6-9FC8-D3574300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39F-B8D1-473C-8D6C-6A6B2A89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AC6-D8F5-47FD-8742-7952C51C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69B-831A-40A2-9F63-87EFA314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79E9-BF23-47E3-ABC2-ED46D6351F6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7400" y="137160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Gestión d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66680" y="3886200"/>
            <a:ext cx="647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Recursos Humano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SELECCIÓN DE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6520" y="45720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tapas del proceso de sele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6320" y="838080"/>
            <a:ext cx="1295280" cy="686880"/>
            <a:chOff x="76320" y="838080"/>
            <a:chExt cx="1295280" cy="686880"/>
          </a:xfrm>
        </p:grpSpPr>
        <p:sp>
          <p:nvSpPr>
            <p:cNvPr id="187" name=""/>
            <p:cNvSpPr/>
            <p:nvPr/>
          </p:nvSpPr>
          <p:spPr>
            <a:xfrm>
              <a:off x="76320" y="838080"/>
              <a:ext cx="129528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8200" y="882360"/>
              <a:ext cx="11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Análi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del pues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479840" y="1812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371600" y="1219320"/>
            <a:ext cx="1980720" cy="456840"/>
            <a:chOff x="1371600" y="1219320"/>
            <a:chExt cx="1980720" cy="456840"/>
          </a:xfrm>
        </p:grpSpPr>
        <p:grpSp>
          <p:nvGrpSpPr>
            <p:cNvPr id="191" name=""/>
            <p:cNvGrpSpPr/>
            <p:nvPr/>
          </p:nvGrpSpPr>
          <p:grpSpPr>
            <a:xfrm>
              <a:off x="1676520" y="1219320"/>
              <a:ext cx="1675800" cy="456840"/>
              <a:chOff x="1676520" y="1219320"/>
              <a:chExt cx="1675800" cy="456840"/>
            </a:xfrm>
          </p:grpSpPr>
          <p:sp>
            <p:nvSpPr>
              <p:cNvPr id="192" name=""/>
              <p:cNvSpPr/>
              <p:nvPr/>
            </p:nvSpPr>
            <p:spPr>
              <a:xfrm>
                <a:off x="1676520" y="1219320"/>
                <a:ext cx="1675800" cy="4568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73000" y="1219320"/>
                <a:ext cx="1543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Requerimie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371600" y="1371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676520" y="1676520"/>
            <a:ext cx="7394040" cy="596880"/>
            <a:chOff x="1676520" y="1676520"/>
            <a:chExt cx="7394040" cy="596880"/>
          </a:xfrm>
        </p:grpSpPr>
        <p:grpSp>
          <p:nvGrpSpPr>
            <p:cNvPr id="196" name=""/>
            <p:cNvGrpSpPr/>
            <p:nvPr/>
          </p:nvGrpSpPr>
          <p:grpSpPr>
            <a:xfrm>
              <a:off x="1981080" y="1828800"/>
              <a:ext cx="1676160" cy="382320"/>
              <a:chOff x="1981080" y="1828800"/>
              <a:chExt cx="1676160" cy="382320"/>
            </a:xfrm>
          </p:grpSpPr>
          <p:sp>
            <p:nvSpPr>
              <p:cNvPr id="197" name=""/>
              <p:cNvSpPr/>
              <p:nvPr/>
            </p:nvSpPr>
            <p:spPr>
              <a:xfrm>
                <a:off x="1981080" y="1828800"/>
                <a:ext cx="167616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173680" y="1842840"/>
                <a:ext cx="1415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Convocator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712120" y="1905120"/>
              <a:ext cx="335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A través de medios de divulg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76520" y="167652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7600" y="20574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981080" y="2209680"/>
            <a:ext cx="5640120" cy="559080"/>
            <a:chOff x="1981080" y="2209680"/>
            <a:chExt cx="5640120" cy="559080"/>
          </a:xfrm>
        </p:grpSpPr>
        <p:grpSp>
          <p:nvGrpSpPr>
            <p:cNvPr id="203" name=""/>
            <p:cNvGrpSpPr/>
            <p:nvPr/>
          </p:nvGrpSpPr>
          <p:grpSpPr>
            <a:xfrm>
              <a:off x="2286000" y="2362320"/>
              <a:ext cx="1676160" cy="380880"/>
              <a:chOff x="2286000" y="2362320"/>
              <a:chExt cx="1676160" cy="380880"/>
            </a:xfrm>
          </p:grpSpPr>
          <p:sp>
            <p:nvSpPr>
              <p:cNvPr id="204" name=""/>
              <p:cNvSpPr/>
              <p:nvPr/>
            </p:nvSpPr>
            <p:spPr>
              <a:xfrm>
                <a:off x="2286000" y="2362320"/>
                <a:ext cx="167616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401200" y="2362320"/>
                <a:ext cx="151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Reclutamie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5707800" y="2400480"/>
              <a:ext cx="191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Solicitud / form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220968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25146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286000" y="2743200"/>
            <a:ext cx="5792760" cy="610920"/>
            <a:chOff x="2286000" y="2743200"/>
            <a:chExt cx="5792760" cy="610920"/>
          </a:xfrm>
        </p:grpSpPr>
        <p:grpSp>
          <p:nvGrpSpPr>
            <p:cNvPr id="210" name=""/>
            <p:cNvGrpSpPr/>
            <p:nvPr/>
          </p:nvGrpSpPr>
          <p:grpSpPr>
            <a:xfrm>
              <a:off x="2513160" y="2909880"/>
              <a:ext cx="1753920" cy="444240"/>
              <a:chOff x="2513160" y="2909880"/>
              <a:chExt cx="1753920" cy="444240"/>
            </a:xfrm>
          </p:grpSpPr>
          <p:sp>
            <p:nvSpPr>
              <p:cNvPr id="211" name=""/>
              <p:cNvSpPr/>
              <p:nvPr/>
            </p:nvSpPr>
            <p:spPr>
              <a:xfrm>
                <a:off x="2590560" y="2909880"/>
                <a:ext cx="167652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513160" y="2985840"/>
                <a:ext cx="1742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Entrevista inici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5726160" y="2971800"/>
              <a:ext cx="23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Verificación superfi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0" y="27432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67080" y="31240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0920" y="3276720"/>
            <a:ext cx="5544360" cy="763200"/>
            <a:chOff x="2590920" y="3276720"/>
            <a:chExt cx="5544360" cy="763200"/>
          </a:xfrm>
        </p:grpSpPr>
        <p:grpSp>
          <p:nvGrpSpPr>
            <p:cNvPr id="217" name=""/>
            <p:cNvGrpSpPr/>
            <p:nvPr/>
          </p:nvGrpSpPr>
          <p:grpSpPr>
            <a:xfrm>
              <a:off x="2895480" y="3397320"/>
              <a:ext cx="1676160" cy="642600"/>
              <a:chOff x="2895480" y="3397320"/>
              <a:chExt cx="1676160" cy="642600"/>
            </a:xfrm>
          </p:grpSpPr>
          <p:sp>
            <p:nvSpPr>
              <p:cNvPr id="218" name=""/>
              <p:cNvSpPr/>
              <p:nvPr/>
            </p:nvSpPr>
            <p:spPr>
              <a:xfrm>
                <a:off x="2895480" y="3429000"/>
                <a:ext cx="167616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161880" y="3397320"/>
                <a:ext cx="118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Aplic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de prueb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5790600" y="3619440"/>
              <a:ext cx="234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Psicológicos / aptitu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0920" y="327672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895480" y="4038480"/>
            <a:ext cx="5106960" cy="533520"/>
            <a:chOff x="2895480" y="4038480"/>
            <a:chExt cx="5106960" cy="533520"/>
          </a:xfrm>
        </p:grpSpPr>
        <p:grpSp>
          <p:nvGrpSpPr>
            <p:cNvPr id="224" name=""/>
            <p:cNvGrpSpPr/>
            <p:nvPr/>
          </p:nvGrpSpPr>
          <p:grpSpPr>
            <a:xfrm>
              <a:off x="3200400" y="4191120"/>
              <a:ext cx="1676160" cy="380880"/>
              <a:chOff x="3200400" y="4191120"/>
              <a:chExt cx="1676160" cy="380880"/>
            </a:xfrm>
          </p:grpSpPr>
          <p:sp>
            <p:nvSpPr>
              <p:cNvPr id="225" name=""/>
              <p:cNvSpPr/>
              <p:nvPr/>
            </p:nvSpPr>
            <p:spPr>
              <a:xfrm>
                <a:off x="3200400" y="4191120"/>
                <a:ext cx="167616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237120" y="4191120"/>
                <a:ext cx="158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Entrevista fin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790240" y="4191120"/>
              <a:ext cx="22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Información adi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95480" y="403848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76920" y="4343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200400" y="4572000"/>
            <a:ext cx="4801320" cy="686880"/>
            <a:chOff x="3200400" y="4572000"/>
            <a:chExt cx="4801320" cy="686880"/>
          </a:xfrm>
        </p:grpSpPr>
        <p:grpSp>
          <p:nvGrpSpPr>
            <p:cNvPr id="231" name=""/>
            <p:cNvGrpSpPr/>
            <p:nvPr/>
          </p:nvGrpSpPr>
          <p:grpSpPr>
            <a:xfrm>
              <a:off x="3505320" y="4616280"/>
              <a:ext cx="1675800" cy="642600"/>
              <a:chOff x="3505320" y="4616280"/>
              <a:chExt cx="1675800" cy="642600"/>
            </a:xfrm>
          </p:grpSpPr>
          <p:sp>
            <p:nvSpPr>
              <p:cNvPr id="232" name=""/>
              <p:cNvSpPr/>
              <p:nvPr/>
            </p:nvSpPr>
            <p:spPr>
              <a:xfrm>
                <a:off x="3505320" y="4616280"/>
                <a:ext cx="1675800" cy="5792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651480" y="4616280"/>
                <a:ext cx="141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Investig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antecedent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5790960" y="4724280"/>
              <a:ext cx="221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Verificación profun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00400" y="45720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81480" y="48769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505320" y="5181480"/>
            <a:ext cx="5029920" cy="533160"/>
            <a:chOff x="3505320" y="5181480"/>
            <a:chExt cx="5029920" cy="533160"/>
          </a:xfrm>
        </p:grpSpPr>
        <p:grpSp>
          <p:nvGrpSpPr>
            <p:cNvPr id="238" name=""/>
            <p:cNvGrpSpPr/>
            <p:nvPr/>
          </p:nvGrpSpPr>
          <p:grpSpPr>
            <a:xfrm>
              <a:off x="3809880" y="5257800"/>
              <a:ext cx="1688400" cy="456840"/>
              <a:chOff x="3809880" y="5257800"/>
              <a:chExt cx="1688400" cy="456840"/>
            </a:xfrm>
          </p:grpSpPr>
          <p:sp>
            <p:nvSpPr>
              <p:cNvPr id="239" name=""/>
              <p:cNvSpPr/>
              <p:nvPr/>
            </p:nvSpPr>
            <p:spPr>
              <a:xfrm>
                <a:off x="3809880" y="5257800"/>
                <a:ext cx="1641960" cy="4568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833280" y="5257800"/>
                <a:ext cx="166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Exámen méd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5803200" y="5295960"/>
              <a:ext cx="27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ondiciones biofisiológ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05320" y="518148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86400" y="54864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809880" y="5715000"/>
            <a:ext cx="4876920" cy="990360"/>
            <a:chOff x="3809880" y="5715000"/>
            <a:chExt cx="4876920" cy="990360"/>
          </a:xfrm>
        </p:grpSpPr>
        <p:grpSp>
          <p:nvGrpSpPr>
            <p:cNvPr id="245" name=""/>
            <p:cNvGrpSpPr/>
            <p:nvPr/>
          </p:nvGrpSpPr>
          <p:grpSpPr>
            <a:xfrm>
              <a:off x="4419720" y="6324480"/>
              <a:ext cx="1600200" cy="380880"/>
              <a:chOff x="4419720" y="6324480"/>
              <a:chExt cx="1600200" cy="380880"/>
            </a:xfrm>
          </p:grpSpPr>
          <p:sp>
            <p:nvSpPr>
              <p:cNvPr id="246" name=""/>
              <p:cNvSpPr/>
              <p:nvPr/>
            </p:nvSpPr>
            <p:spPr>
              <a:xfrm>
                <a:off x="4419720" y="6324480"/>
                <a:ext cx="160020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93680" y="6324480"/>
                <a:ext cx="1096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Induc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114800" y="5791320"/>
              <a:ext cx="1676160" cy="456840"/>
              <a:chOff x="4114800" y="5791320"/>
              <a:chExt cx="1676160" cy="456840"/>
            </a:xfrm>
          </p:grpSpPr>
          <p:sp>
            <p:nvSpPr>
              <p:cNvPr id="249" name=""/>
              <p:cNvSpPr/>
              <p:nvPr/>
            </p:nvSpPr>
            <p:spPr>
              <a:xfrm>
                <a:off x="4114800" y="5791320"/>
                <a:ext cx="1676160" cy="4568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232520" y="5808600"/>
                <a:ext cx="136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Contrat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6838920" y="6033960"/>
              <a:ext cx="184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Periódo de prueb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09880" y="57150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4800" y="62485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67280" y="6248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6320" y="2895480"/>
            <a:ext cx="2285640" cy="2743200"/>
            <a:chOff x="76320" y="2895480"/>
            <a:chExt cx="2285640" cy="2743200"/>
          </a:xfrm>
        </p:grpSpPr>
        <p:sp>
          <p:nvSpPr>
            <p:cNvPr id="256" name=""/>
            <p:cNvSpPr/>
            <p:nvPr/>
          </p:nvSpPr>
          <p:spPr>
            <a:xfrm>
              <a:off x="76320" y="2895480"/>
              <a:ext cx="53316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09120" y="32004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09120" y="380988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09120" y="434340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09120" y="48769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09120" y="541008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7680" y="898560"/>
            <a:ext cx="49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nsideraciones en la selección de docente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04920" y="1676520"/>
            <a:ext cx="8610480" cy="4295520"/>
            <a:chOff x="304920" y="1676520"/>
            <a:chExt cx="8610480" cy="4295520"/>
          </a:xfrm>
        </p:grpSpPr>
        <p:sp>
          <p:nvSpPr>
            <p:cNvPr id="264" name=""/>
            <p:cNvSpPr/>
            <p:nvPr/>
          </p:nvSpPr>
          <p:spPr>
            <a:xfrm>
              <a:off x="304920" y="1676520"/>
              <a:ext cx="8610480" cy="42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6560" y="1771560"/>
              <a:ext cx="829908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Test vocacional: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para que la docencia sea ejerci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profesionalm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Pruebas de personalidad: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pues los profesores son  tomad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como ejempl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Pruebas de razonami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verbal y lógico: 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formación de los maest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Entrevista: 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para visión más aproximada de l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candida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SELECCIÓN DE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240" y="6858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entajas de la sele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1295280"/>
            <a:ext cx="845820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5200" y="1357200"/>
            <a:ext cx="81252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duce los costos del entrenamiento e incremen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 producti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isminuye el índice de accident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crementa la satisfacción y moral del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imita el subjetivismo, disminuyendo el favorit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isminuye el ausentismo, identificando trabajad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SELECCIÓN DE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209680" y="26668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Evaluació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EVALU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60" y="735120"/>
            <a:ext cx="82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écnica de efectos múltiples, influye en  actividades administrativas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-86400" y="1309680"/>
            <a:ext cx="9307440" cy="4786200"/>
            <a:chOff x="-86400" y="1309680"/>
            <a:chExt cx="9307440" cy="4786200"/>
          </a:xfrm>
        </p:grpSpPr>
        <p:sp>
          <p:nvSpPr>
            <p:cNvPr id="279" name=""/>
            <p:cNvSpPr/>
            <p:nvPr/>
          </p:nvSpPr>
          <p:spPr>
            <a:xfrm>
              <a:off x="349200" y="1309680"/>
              <a:ext cx="1555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1447920"/>
              <a:ext cx="9144000" cy="464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-86400" y="1400040"/>
              <a:ext cx="9307440" cy="42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MX" sz="2600" spc="-1" strike="noStrike">
                  <a:solidFill>
                    <a:srgbClr val="000000"/>
                  </a:solidFill>
                  <a:latin typeface="Times New Roman"/>
                </a:rPr>
                <a:t>Para incrementar salarios o bonificar a los más idóneo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buSzPct val="10282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MX" sz="2600" spc="-1" strike="noStrike">
                  <a:solidFill>
                    <a:srgbClr val="000000"/>
                  </a:solidFill>
                  <a:latin typeface="Times New Roman"/>
                </a:rPr>
                <a:t>Fuente de datos para identificar necesidades de capacitació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buSzPct val="10282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MX" sz="2600" spc="-1" strike="noStrike">
                  <a:solidFill>
                    <a:srgbClr val="000000"/>
                  </a:solidFill>
                  <a:latin typeface="Times New Roman"/>
                </a:rPr>
                <a:t>Elemento motivador, aplicación de estímulo positivos y negativo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buSzPct val="10282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MX" sz="2600" spc="-1" strike="noStrike">
                  <a:solidFill>
                    <a:srgbClr val="000000"/>
                  </a:solidFill>
                  <a:latin typeface="Times New Roman"/>
                </a:rPr>
                <a:t>Mayor racionalidad a la organizació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buSzPct val="10282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MX" sz="2600" spc="-1" strike="noStrike">
                  <a:solidFill>
                    <a:srgbClr val="000000"/>
                  </a:solidFill>
                  <a:latin typeface="Times New Roman"/>
                </a:rPr>
                <a:t>Información sobre calidad de proceso de selecció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MX" sz="2600" spc="-1" strike="noStrike">
                  <a:solidFill>
                    <a:srgbClr val="000000"/>
                  </a:solidFill>
                  <a:latin typeface="Times New Roman"/>
                </a:rPr>
                <a:t>Para no renovar contrato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buSzPct val="10282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MX" sz="2600" spc="-1" strike="noStrike">
                  <a:solidFill>
                    <a:srgbClr val="000000"/>
                  </a:solidFill>
                  <a:latin typeface="Times New Roman"/>
                </a:rPr>
                <a:t>Información para el planeamiento de los recursos humano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73080" y="838080"/>
            <a:ext cx="24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ipos de evalu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-30240" y="1447920"/>
            <a:ext cx="9174240" cy="4572000"/>
            <a:chOff x="-30240" y="1447920"/>
            <a:chExt cx="9174240" cy="4572000"/>
          </a:xfrm>
        </p:grpSpPr>
        <p:sp>
          <p:nvSpPr>
            <p:cNvPr id="285" name=""/>
            <p:cNvSpPr/>
            <p:nvPr/>
          </p:nvSpPr>
          <p:spPr>
            <a:xfrm>
              <a:off x="0" y="1447920"/>
              <a:ext cx="9144000" cy="457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-30240" y="1683000"/>
              <a:ext cx="895716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Por parte de los superiores:     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por ser quien conoce el pues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e tra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Por parte de los iguales:           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porque tienen acceso a otro ti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e inform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Por parte de los subordinados: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puesto que son quienes recib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sus instrucc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Por parte de los clientes:          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por que son los princip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benefici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360 grados:                               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evaluación integral, incluye la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anteri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Seguimiento informático:          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mediante registros por computado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EVALU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3440" y="380880"/>
            <a:ext cx="3147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luación de doc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990720"/>
            <a:ext cx="670572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ejo de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impieza y 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l a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iscip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istribución de t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nejo de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l a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nejo de instru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EVALU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80880" y="1447920"/>
            <a:ext cx="6705720" cy="49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acidad did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oti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timula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ensa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eparación de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ocimient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EVALU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9400" y="609480"/>
            <a:ext cx="3147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luación de doc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EVALU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1455840"/>
            <a:ext cx="7315200" cy="49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diciones/Aptit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mprensión, empat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Habilidad de ex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ociabi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untu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terés/entusia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9400" y="609480"/>
            <a:ext cx="3147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luación de doc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EVALU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1066680"/>
            <a:ext cx="5465880" cy="53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píritu de su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dent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rea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laciones con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adres de fami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9400" y="609480"/>
            <a:ext cx="3147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luación de doc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360" y="380880"/>
            <a:ext cx="36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unciones actividades y objetiv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90720" y="1066680"/>
            <a:ext cx="3503880" cy="5638680"/>
            <a:chOff x="990720" y="1066680"/>
            <a:chExt cx="3503880" cy="5638680"/>
          </a:xfrm>
        </p:grpSpPr>
        <p:sp>
          <p:nvSpPr>
            <p:cNvPr id="48" name=""/>
            <p:cNvSpPr/>
            <p:nvPr/>
          </p:nvSpPr>
          <p:spPr>
            <a:xfrm>
              <a:off x="990720" y="1066680"/>
              <a:ext cx="3429000" cy="56386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49400" y="1120680"/>
              <a:ext cx="344520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Plan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-Planificación estratég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-Planificación de recursos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Contra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-Recluta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-Selección y ori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Aumento de potencial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los recursos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-Formación y perfecciona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-Gestión y planificació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la carrera profes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Evaluación y retrib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-Evaluación del rend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-Retrib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Mejo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-Formas de gestionar a la g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Globaliz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-Comparaciones internaci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-Multinaci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-Control e investig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19720" y="990720"/>
            <a:ext cx="2743200" cy="1739880"/>
            <a:chOff x="4419720" y="990720"/>
            <a:chExt cx="2743200" cy="1739880"/>
          </a:xfrm>
        </p:grpSpPr>
        <p:grpSp>
          <p:nvGrpSpPr>
            <p:cNvPr id="51" name=""/>
            <p:cNvGrpSpPr/>
            <p:nvPr/>
          </p:nvGrpSpPr>
          <p:grpSpPr>
            <a:xfrm>
              <a:off x="5013360" y="990720"/>
              <a:ext cx="2149560" cy="1739880"/>
              <a:chOff x="5013360" y="990720"/>
              <a:chExt cx="2149560" cy="1739880"/>
            </a:xfrm>
          </p:grpSpPr>
          <p:sp>
            <p:nvSpPr>
              <p:cNvPr id="52" name=""/>
              <p:cNvSpPr/>
              <p:nvPr/>
            </p:nvSpPr>
            <p:spPr>
              <a:xfrm>
                <a:off x="5029200" y="1028520"/>
                <a:ext cx="2133720" cy="167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013360" y="990720"/>
                <a:ext cx="21405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Objetivos explíci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-Atraer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-Reten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-Motiv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-Ayudar al desarroll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4419720" y="18291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334120" y="2743200"/>
            <a:ext cx="2611440" cy="2133360"/>
            <a:chOff x="5334120" y="2743200"/>
            <a:chExt cx="2611440" cy="2133360"/>
          </a:xfrm>
        </p:grpSpPr>
        <p:grpSp>
          <p:nvGrpSpPr>
            <p:cNvPr id="56" name=""/>
            <p:cNvGrpSpPr/>
            <p:nvPr/>
          </p:nvGrpSpPr>
          <p:grpSpPr>
            <a:xfrm>
              <a:off x="5865840" y="2857320"/>
              <a:ext cx="2079720" cy="2019240"/>
              <a:chOff x="5865840" y="2857320"/>
              <a:chExt cx="2079720" cy="2019240"/>
            </a:xfrm>
          </p:grpSpPr>
          <p:sp>
            <p:nvSpPr>
              <p:cNvPr id="57" name=""/>
              <p:cNvSpPr/>
              <p:nvPr/>
            </p:nvSpPr>
            <p:spPr>
              <a:xfrm>
                <a:off x="5883120" y="2895480"/>
                <a:ext cx="2057400" cy="1981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865840" y="2857320"/>
                <a:ext cx="207972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Objetivos inplíci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-Productiv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-Calidad de la vi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en el trabaj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-Cumplimiento de l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normativ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334120" y="2743200"/>
              <a:ext cx="533160" cy="609480"/>
              <a:chOff x="5334120" y="2743200"/>
              <a:chExt cx="533160" cy="609480"/>
            </a:xfrm>
          </p:grpSpPr>
          <p:sp>
            <p:nvSpPr>
              <p:cNvPr id="60" name=""/>
              <p:cNvSpPr/>
              <p:nvPr/>
            </p:nvSpPr>
            <p:spPr>
              <a:xfrm>
                <a:off x="5334120" y="274320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334120" y="33526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" name=""/>
          <p:cNvGrpSpPr/>
          <p:nvPr/>
        </p:nvGrpSpPr>
        <p:grpSpPr>
          <a:xfrm>
            <a:off x="6095880" y="4876920"/>
            <a:ext cx="3048840" cy="1980720"/>
            <a:chOff x="6095880" y="4876920"/>
            <a:chExt cx="3048840" cy="1980720"/>
          </a:xfrm>
        </p:grpSpPr>
        <p:grpSp>
          <p:nvGrpSpPr>
            <p:cNvPr id="63" name=""/>
            <p:cNvGrpSpPr/>
            <p:nvPr/>
          </p:nvGrpSpPr>
          <p:grpSpPr>
            <a:xfrm>
              <a:off x="6629400" y="5029200"/>
              <a:ext cx="2515320" cy="1828440"/>
              <a:chOff x="6629400" y="5029200"/>
              <a:chExt cx="2515320" cy="1828440"/>
            </a:xfrm>
          </p:grpSpPr>
          <p:sp>
            <p:nvSpPr>
              <p:cNvPr id="64" name=""/>
              <p:cNvSpPr/>
              <p:nvPr/>
            </p:nvSpPr>
            <p:spPr>
              <a:xfrm>
                <a:off x="6629400" y="5029200"/>
                <a:ext cx="2438280" cy="182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705360" y="5105160"/>
                <a:ext cx="2439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Objetivos a largo plaz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-Supervivenc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-Benefici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-Competitiv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-Adaptabil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095880" y="4876920"/>
              <a:ext cx="533520" cy="609480"/>
              <a:chOff x="6095880" y="4876920"/>
              <a:chExt cx="533520" cy="609480"/>
            </a:xfrm>
          </p:grpSpPr>
          <p:sp>
            <p:nvSpPr>
              <p:cNvPr id="67" name=""/>
              <p:cNvSpPr/>
              <p:nvPr/>
            </p:nvSpPr>
            <p:spPr>
              <a:xfrm>
                <a:off x="6095880" y="48769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095880" y="548640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-31320" y="1736640"/>
            <a:ext cx="1022760" cy="3615480"/>
            <a:chOff x="-31320" y="1736640"/>
            <a:chExt cx="1022760" cy="3615480"/>
          </a:xfrm>
        </p:grpSpPr>
        <p:grpSp>
          <p:nvGrpSpPr>
            <p:cNvPr id="70" name=""/>
            <p:cNvGrpSpPr/>
            <p:nvPr/>
          </p:nvGrpSpPr>
          <p:grpSpPr>
            <a:xfrm>
              <a:off x="-20520" y="1736640"/>
              <a:ext cx="1011960" cy="703800"/>
              <a:chOff x="-20520" y="1736640"/>
              <a:chExt cx="1011960" cy="703800"/>
            </a:xfrm>
          </p:grpSpPr>
          <p:sp>
            <p:nvSpPr>
              <p:cNvPr id="71" name=""/>
              <p:cNvSpPr/>
              <p:nvPr/>
            </p:nvSpPr>
            <p:spPr>
              <a:xfrm>
                <a:off x="-18360" y="1736640"/>
                <a:ext cx="1009800" cy="703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Times New Roman"/>
                  </a:rPr>
                  <a:t>Entor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Times New Roman"/>
                  </a:rPr>
                  <a:t>exter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-20520" y="1752480"/>
                <a:ext cx="990360" cy="68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-31320" y="4648320"/>
              <a:ext cx="1021680" cy="703800"/>
              <a:chOff x="-31320" y="4648320"/>
              <a:chExt cx="1021680" cy="703800"/>
            </a:xfrm>
          </p:grpSpPr>
          <p:sp>
            <p:nvSpPr>
              <p:cNvPr id="74" name=""/>
              <p:cNvSpPr/>
              <p:nvPr/>
            </p:nvSpPr>
            <p:spPr>
              <a:xfrm>
                <a:off x="-31320" y="4648320"/>
                <a:ext cx="1003680" cy="703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Times New Roman"/>
                  </a:rPr>
                  <a:t>Entor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Times New Roman"/>
                  </a:rPr>
                  <a:t>inter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4648320"/>
                <a:ext cx="990360" cy="68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457200" y="24382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0" y="-93600"/>
            <a:ext cx="9144000" cy="532800"/>
            <a:chOff x="0" y="-93600"/>
            <a:chExt cx="9144000" cy="532800"/>
          </a:xfrm>
        </p:grpSpPr>
        <p:sp>
          <p:nvSpPr>
            <p:cNvPr id="78" name=""/>
            <p:cNvSpPr/>
            <p:nvPr/>
          </p:nvSpPr>
          <p:spPr>
            <a:xfrm>
              <a:off x="0" y="0"/>
              <a:ext cx="9144000" cy="396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82640" y="-93600"/>
              <a:ext cx="54673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c0c0c0"/>
                  </a:solidFill>
                  <a:latin typeface="Times New Roman"/>
                </a:rPr>
                <a:t>GESTION DE RECURSOS HUMA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066680" y="2666880"/>
            <a:ext cx="647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Motivació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MOTIV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33520" y="685800"/>
            <a:ext cx="8076600" cy="914400"/>
            <a:chOff x="533520" y="685800"/>
            <a:chExt cx="8076600" cy="914400"/>
          </a:xfrm>
        </p:grpSpPr>
        <p:sp>
          <p:nvSpPr>
            <p:cNvPr id="308" name=""/>
            <p:cNvSpPr/>
            <p:nvPr/>
          </p:nvSpPr>
          <p:spPr>
            <a:xfrm>
              <a:off x="533520" y="685800"/>
              <a:ext cx="8000640" cy="914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727200"/>
              <a:ext cx="80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Voluntad de ejercer altos niveles de esfuerzos para alcanzar metas organizacionales y satisfacer nececesidades individual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6320" y="2193840"/>
            <a:ext cx="8991360" cy="1311480"/>
            <a:chOff x="76320" y="2193840"/>
            <a:chExt cx="8991360" cy="1311480"/>
          </a:xfrm>
        </p:grpSpPr>
        <p:grpSp>
          <p:nvGrpSpPr>
            <p:cNvPr id="311" name=""/>
            <p:cNvGrpSpPr/>
            <p:nvPr/>
          </p:nvGrpSpPr>
          <p:grpSpPr>
            <a:xfrm>
              <a:off x="76320" y="2666880"/>
              <a:ext cx="8991360" cy="838440"/>
              <a:chOff x="76320" y="2666880"/>
              <a:chExt cx="8991360" cy="838440"/>
            </a:xfrm>
          </p:grpSpPr>
          <p:sp>
            <p:nvSpPr>
              <p:cNvPr id="312" name=""/>
              <p:cNvSpPr/>
              <p:nvPr/>
            </p:nvSpPr>
            <p:spPr>
              <a:xfrm>
                <a:off x="76320" y="2666880"/>
                <a:ext cx="1447560" cy="790560"/>
              </a:xfrm>
              <a:custGeom>
                <a:avLst/>
                <a:gdLst>
                  <a:gd name="textAreaLeft" fmla="*/ 0 w 1447560"/>
                  <a:gd name="textAreaRight" fmla="*/ 1447920 w 1447560"/>
                  <a:gd name="textAreaTop" fmla="*/ 0 h 790560"/>
                  <a:gd name="textAreaBottom" fmla="*/ 790920 h 79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Necesidad 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satisfech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48320" y="2666880"/>
                <a:ext cx="1447560" cy="838440"/>
              </a:xfrm>
              <a:custGeom>
                <a:avLst/>
                <a:gdLst>
                  <a:gd name="textAreaLeft" fmla="*/ 0 w 1447560"/>
                  <a:gd name="textAreaRight" fmla="*/ 1447920 w 14475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Comportam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de búsque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124080" y="2666880"/>
                <a:ext cx="1447920" cy="838440"/>
              </a:xfrm>
              <a:custGeom>
                <a:avLst/>
                <a:gdLst>
                  <a:gd name="textAreaLeft" fmla="*/ 0 w 1447920"/>
                  <a:gd name="textAreaRight" fmla="*/ 1448280 w 144792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Impuls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620120" y="2666880"/>
                <a:ext cx="1447560" cy="838440"/>
              </a:xfrm>
              <a:custGeom>
                <a:avLst/>
                <a:gdLst>
                  <a:gd name="textAreaLeft" fmla="*/ 0 w 1447560"/>
                  <a:gd name="textAreaRight" fmla="*/ 1447920 w 14475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Reducción 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tens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72200" y="2666880"/>
                <a:ext cx="1447920" cy="838440"/>
              </a:xfrm>
              <a:custGeom>
                <a:avLst/>
                <a:gdLst>
                  <a:gd name="textAreaLeft" fmla="*/ 0 w 1447920"/>
                  <a:gd name="textAreaRight" fmla="*/ 1448280 w 144792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Necesida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satisfech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00200" y="2666880"/>
                <a:ext cx="1447920" cy="838440"/>
              </a:xfrm>
              <a:custGeom>
                <a:avLst/>
                <a:gdLst>
                  <a:gd name="textAreaLeft" fmla="*/ 0 w 1447920"/>
                  <a:gd name="textAreaRight" fmla="*/ 1448280 w 144792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Tens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661120" y="2193840"/>
              <a:ext cx="37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¿Cómo se satisface una necesida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831600" y="4343400"/>
            <a:ext cx="2994120" cy="2380680"/>
            <a:chOff x="831600" y="4343400"/>
            <a:chExt cx="2994120" cy="2380680"/>
          </a:xfrm>
        </p:grpSpPr>
        <p:sp>
          <p:nvSpPr>
            <p:cNvPr id="320" name=""/>
            <p:cNvSpPr/>
            <p:nvPr/>
          </p:nvSpPr>
          <p:spPr>
            <a:xfrm>
              <a:off x="853920" y="4343400"/>
              <a:ext cx="29718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1600" y="4495680"/>
              <a:ext cx="29070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Motivadores intrínse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Son retribuciones interna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se dan de manera direc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e inmediata al desempeñ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una labo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029200" y="4343400"/>
            <a:ext cx="3276720" cy="2133720"/>
            <a:chOff x="5029200" y="4343400"/>
            <a:chExt cx="3276720" cy="2133720"/>
          </a:xfrm>
        </p:grpSpPr>
        <p:sp>
          <p:nvSpPr>
            <p:cNvPr id="323" name=""/>
            <p:cNvSpPr/>
            <p:nvPr/>
          </p:nvSpPr>
          <p:spPr>
            <a:xfrm>
              <a:off x="5029200" y="4343400"/>
              <a:ext cx="3276720" cy="213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59520" y="4433760"/>
              <a:ext cx="30351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s-MX" sz="2000" spc="-1" strike="noStrike">
                  <a:solidFill>
                    <a:srgbClr val="000000"/>
                  </a:solidFill>
                  <a:latin typeface="Times New Roman"/>
                </a:rPr>
                <a:t>Motivadores extrínse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Son retribuciones extern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que se reciben independien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temente el trabajo.No se d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de forma direc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329280" y="394668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ipos de moti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MOTIV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23800" y="533520"/>
            <a:ext cx="4764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oría de la Motivación de Ma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28600" y="1219320"/>
            <a:ext cx="8610480" cy="4724280"/>
            <a:chOff x="228600" y="1219320"/>
            <a:chExt cx="8610480" cy="4724280"/>
          </a:xfrm>
        </p:grpSpPr>
        <p:sp>
          <p:nvSpPr>
            <p:cNvPr id="330" name=""/>
            <p:cNvSpPr/>
            <p:nvPr/>
          </p:nvSpPr>
          <p:spPr>
            <a:xfrm>
              <a:off x="228600" y="1219320"/>
              <a:ext cx="8610480" cy="47242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838080" y="1981080"/>
              <a:ext cx="7391520" cy="3961800"/>
              <a:chOff x="838080" y="1981080"/>
              <a:chExt cx="7391520" cy="3961800"/>
            </a:xfrm>
          </p:grpSpPr>
          <p:sp>
            <p:nvSpPr>
              <p:cNvPr id="332" name=""/>
              <p:cNvSpPr/>
              <p:nvPr/>
            </p:nvSpPr>
            <p:spPr>
              <a:xfrm>
                <a:off x="3200400" y="2743200"/>
                <a:ext cx="266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438280" y="3581280"/>
                <a:ext cx="426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38080" y="5257800"/>
                <a:ext cx="739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676520" y="4419720"/>
                <a:ext cx="571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33200" y="5410080"/>
                <a:ext cx="16574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Fisiológic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085560" y="4724280"/>
                <a:ext cx="301248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Seguridad y protecció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55480" y="3792600"/>
                <a:ext cx="253836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Pertenencia y am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805920" y="2898720"/>
                <a:ext cx="17582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Valorizació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84760" y="1981080"/>
                <a:ext cx="1622520" cy="78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Realizació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person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286000" y="28954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Liderazgo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LIDERAZ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066680" y="5334120"/>
            <a:ext cx="7086600" cy="1447560"/>
            <a:chOff x="1066680" y="5334120"/>
            <a:chExt cx="7086600" cy="1447560"/>
          </a:xfrm>
        </p:grpSpPr>
        <p:sp>
          <p:nvSpPr>
            <p:cNvPr id="347" name=""/>
            <p:cNvSpPr/>
            <p:nvPr/>
          </p:nvSpPr>
          <p:spPr>
            <a:xfrm>
              <a:off x="1066680" y="5334120"/>
              <a:ext cx="7086600" cy="1447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5410080"/>
              <a:ext cx="7010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Es la capacidad, que puede tener una persona, de influir en un grupo para lograr alcanzar, con estusiasmo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compromiso, objetivos bien definido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04920" y="685800"/>
            <a:ext cx="1981080" cy="2362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os equ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equieren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ideraz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685800"/>
            <a:ext cx="2133720" cy="2362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ecesi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terminar asp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pecífico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24280" y="685800"/>
            <a:ext cx="2133720" cy="2362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a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écnicas que habrá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 desarrolla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10280" y="685800"/>
            <a:ext cx="1981440" cy="2362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ara re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flicto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om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cis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51600" y="350532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¿Qué es el lideraz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Orador3" descr=""/>
          <p:cNvPicPr/>
          <p:nvPr/>
        </p:nvPicPr>
        <p:blipFill>
          <a:blip r:embed="rId3"/>
          <a:stretch/>
        </p:blipFill>
        <p:spPr>
          <a:xfrm>
            <a:off x="1523880" y="259092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41480" y="593640"/>
            <a:ext cx="47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os enfoques más recientes sobre liderazgo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30600" y="1538280"/>
            <a:ext cx="59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eoría de la Atribución del Lideraz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80880" y="2209680"/>
            <a:ext cx="8534520" cy="1295280"/>
            <a:chOff x="380880" y="2209680"/>
            <a:chExt cx="8534520" cy="1295280"/>
          </a:xfrm>
        </p:grpSpPr>
        <p:sp>
          <p:nvSpPr>
            <p:cNvPr id="358" name=""/>
            <p:cNvSpPr/>
            <p:nvPr/>
          </p:nvSpPr>
          <p:spPr>
            <a:xfrm>
              <a:off x="380880" y="2209680"/>
              <a:ext cx="8534520" cy="1295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4040" y="2377800"/>
              <a:ext cx="818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El liderazgo es una atribución que la gente formula respecto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otros individuos, a quienes caracterizan con determinados rasg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57200" y="3657600"/>
            <a:ext cx="441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ligenci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sonalidad Extrovertid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uerte habilidad de expresión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er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53240" y="3827520"/>
            <a:ext cx="223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re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li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LIDERAZ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088720" y="635040"/>
            <a:ext cx="53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eoría del Liderazgo Carism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5360" y="2322360"/>
            <a:ext cx="5496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uto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abilidad para articular la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uertes convicciones acerca de la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ortamiento fuera de lo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 perciben como agentes de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nsibilidad al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8600" y="1219320"/>
            <a:ext cx="8763120" cy="1143000"/>
            <a:chOff x="228600" y="1219320"/>
            <a:chExt cx="8763120" cy="1143000"/>
          </a:xfrm>
        </p:grpSpPr>
        <p:sp>
          <p:nvSpPr>
            <p:cNvPr id="367" name=""/>
            <p:cNvSpPr/>
            <p:nvPr/>
          </p:nvSpPr>
          <p:spPr>
            <a:xfrm>
              <a:off x="228600" y="1219320"/>
              <a:ext cx="868680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2040" y="1371600"/>
              <a:ext cx="859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Los subordinados atribuyen al liderazgo una serie de habil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extraordinarias, tras observar determinados comportamiento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LIDERAZ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667240" y="48276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iderazgo Transac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44960" y="1158840"/>
            <a:ext cx="8373600" cy="1050840"/>
            <a:chOff x="444960" y="1158840"/>
            <a:chExt cx="8373600" cy="1050840"/>
          </a:xfrm>
        </p:grpSpPr>
        <p:sp>
          <p:nvSpPr>
            <p:cNvPr id="373" name=""/>
            <p:cNvSpPr/>
            <p:nvPr/>
          </p:nvSpPr>
          <p:spPr>
            <a:xfrm>
              <a:off x="457200" y="1158840"/>
              <a:ext cx="8305920" cy="1050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4960" y="1219320"/>
              <a:ext cx="837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Es quien  motiva a los miembros del equipo en dirección a la met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establecida, clarificando los requerimientos de papeles y tarea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73080" y="2220840"/>
            <a:ext cx="8814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compensa contingente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tercambio de recompesas a cambio de esfuerzo y buen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dministración por excepción (activo)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ontrola y busca desviaciones de las regla y normas, con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orre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dministración por excepción (pasivo)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tervienen sólo si no se satisfacen nor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issez-faire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bdica de sus responsabilidades, evita tomar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LIDERAZ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152280" y="1676520"/>
            <a:ext cx="8839080" cy="1066680"/>
            <a:chOff x="152280" y="1676520"/>
            <a:chExt cx="8839080" cy="1066680"/>
          </a:xfrm>
        </p:grpSpPr>
        <p:sp>
          <p:nvSpPr>
            <p:cNvPr id="378" name=""/>
            <p:cNvSpPr/>
            <p:nvPr/>
          </p:nvSpPr>
          <p:spPr>
            <a:xfrm>
              <a:off x="152280" y="1676520"/>
              <a:ext cx="8839080" cy="10666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6000" y="1779840"/>
              <a:ext cx="844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Propicia en los miembros un nivel de esfuerzo y desempeño que 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permita trascender sus intereses personales y alcanzar meta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591640" y="700200"/>
            <a:ext cx="45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iderazgo Transform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65880" y="2971800"/>
            <a:ext cx="4987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ar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spi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tímulo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sideración individu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LIDERAZ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057400" y="137160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nflicto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66680" y="365760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organizacionale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000" y="380880"/>
            <a:ext cx="71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creciente importancia de la GRH:  </a:t>
            </a: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seis tendencia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593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-588960" y="685800"/>
            <a:ext cx="10566720" cy="5451480"/>
            <a:chOff x="-588960" y="685800"/>
            <a:chExt cx="10566720" cy="5451480"/>
          </a:xfrm>
        </p:grpSpPr>
        <p:sp>
          <p:nvSpPr>
            <p:cNvPr id="84" name=""/>
            <p:cNvSpPr/>
            <p:nvPr/>
          </p:nvSpPr>
          <p:spPr>
            <a:xfrm>
              <a:off x="0" y="838080"/>
              <a:ext cx="9144000" cy="529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-588960" y="685800"/>
              <a:ext cx="10566720" cy="54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Times New Roman"/>
                </a:rPr>
                <a:t>- Aumento de la competencia:           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mercado con mayo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competenc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Times New Roman"/>
                </a:rPr>
                <a:t>- Coste de los recursos humanos:      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interés por el bienesta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de los recursos human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Times New Roman"/>
                </a:rPr>
                <a:t>- Crisis de la productividad:              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mayor competencia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en el merc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Times New Roman"/>
                </a:rPr>
                <a:t>- Ritmo y complejidad del cambio:   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adaptarse a cambi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continu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Times New Roman"/>
                </a:rPr>
                <a:t>- Síntomas en el lugar del trabajo:   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evolución en relaci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de trabajdor y trabaj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Times New Roman"/>
                </a:rPr>
                <a:t>- Tendencias para el siglo XXI:       </a:t>
              </a:r>
              <a:r>
                <a:rPr b="0" i="1" lang="es-MX" sz="2800" spc="-1" strike="noStrike">
                  <a:solidFill>
                    <a:srgbClr val="000000"/>
                  </a:solidFill>
                  <a:latin typeface="Times New Roman"/>
                </a:rPr>
                <a:t>incremento de actividades</a:t>
              </a:r>
              <a:r>
                <a:rPr b="1" lang="es-MX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0" y="-152280"/>
            <a:ext cx="9144000" cy="532800"/>
            <a:chOff x="0" y="-152280"/>
            <a:chExt cx="9144000" cy="532800"/>
          </a:xfrm>
        </p:grpSpPr>
        <p:sp>
          <p:nvSpPr>
            <p:cNvPr id="87" name=""/>
            <p:cNvSpPr/>
            <p:nvPr/>
          </p:nvSpPr>
          <p:spPr>
            <a:xfrm>
              <a:off x="0" y="-58680"/>
              <a:ext cx="9144000" cy="396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82640" y="-152280"/>
              <a:ext cx="54673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c0c0c0"/>
                  </a:solidFill>
                  <a:latin typeface="Times New Roman"/>
                </a:rPr>
                <a:t>GESTION DE RECURSOS HUMA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79840" y="49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CONFLICTOS ORGANIZ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BD06990_" descr=""/>
          <p:cNvPicPr/>
          <p:nvPr/>
        </p:nvPicPr>
        <p:blipFill>
          <a:blip r:embed="rId3"/>
          <a:stretch/>
        </p:blipFill>
        <p:spPr>
          <a:xfrm>
            <a:off x="3352680" y="903240"/>
            <a:ext cx="2210040" cy="1839960"/>
          </a:xfrm>
          <a:prstGeom prst="rect">
            <a:avLst/>
          </a:prstGeom>
          <a:ln w="0">
            <a:noFill/>
          </a:ln>
        </p:spPr>
      </p:pic>
      <p:grpSp>
        <p:nvGrpSpPr>
          <p:cNvPr id="392" name=""/>
          <p:cNvGrpSpPr/>
          <p:nvPr/>
        </p:nvGrpSpPr>
        <p:grpSpPr>
          <a:xfrm>
            <a:off x="228600" y="2971800"/>
            <a:ext cx="8839080" cy="2438280"/>
            <a:chOff x="228600" y="2971800"/>
            <a:chExt cx="8839080" cy="2438280"/>
          </a:xfrm>
        </p:grpSpPr>
        <p:sp>
          <p:nvSpPr>
            <p:cNvPr id="393" name=""/>
            <p:cNvSpPr/>
            <p:nvPr/>
          </p:nvSpPr>
          <p:spPr>
            <a:xfrm>
              <a:off x="228600" y="2971800"/>
              <a:ext cx="883908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2760" y="3200040"/>
              <a:ext cx="84956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Times New Roman"/>
                </a:rPr>
                <a:t>Cualquier ruptura o colapso de las buenas relacione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Times New Roman"/>
                </a:rPr>
                <a:t>interpersonales de lo miembros de un grupo y que puede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Times New Roman"/>
                </a:rPr>
                <a:t>manifestarse mediante una sistemática incomunicación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Times New Roman"/>
                </a:rPr>
                <a:t>pudiendo llegar incluso a situaciones de violencia físi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13320" y="917640"/>
            <a:ext cx="8518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ados emocionales o actitudinales en la evolución de un confli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09480" y="2286000"/>
            <a:ext cx="8145360" cy="2748960"/>
            <a:chOff x="609480" y="2286000"/>
            <a:chExt cx="8145360" cy="2748960"/>
          </a:xfrm>
        </p:grpSpPr>
        <p:grpSp>
          <p:nvGrpSpPr>
            <p:cNvPr id="398" name=""/>
            <p:cNvGrpSpPr/>
            <p:nvPr/>
          </p:nvGrpSpPr>
          <p:grpSpPr>
            <a:xfrm>
              <a:off x="609480" y="2286000"/>
              <a:ext cx="7848720" cy="2748960"/>
              <a:chOff x="609480" y="2286000"/>
              <a:chExt cx="7848720" cy="274896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609480" y="2286000"/>
                <a:ext cx="7848720" cy="2748960"/>
                <a:chOff x="609480" y="2286000"/>
                <a:chExt cx="7848720" cy="274896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6308640" y="2286000"/>
                  <a:ext cx="2149560" cy="462960"/>
                  <a:chOff x="6308640" y="2286000"/>
                  <a:chExt cx="2149560" cy="46296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6324480" y="2292120"/>
                    <a:ext cx="2133720" cy="456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308640" y="2286000"/>
                    <a:ext cx="211464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sfuerzo por destrui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5181480" y="2743200"/>
                  <a:ext cx="2133360" cy="462960"/>
                  <a:chOff x="5181480" y="2743200"/>
                  <a:chExt cx="2133360" cy="46296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5181480" y="2749320"/>
                    <a:ext cx="2133360" cy="456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5394600" y="2743200"/>
                    <a:ext cx="15735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gresión físic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4038480" y="3200400"/>
                  <a:ext cx="2133720" cy="463320"/>
                  <a:chOff x="4038480" y="3200400"/>
                  <a:chExt cx="2133720" cy="46332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4038480" y="3206520"/>
                    <a:ext cx="2133720" cy="45720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556880" y="3200400"/>
                    <a:ext cx="113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mena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2895480" y="3657600"/>
                  <a:ext cx="2133360" cy="462960"/>
                  <a:chOff x="2895480" y="3657600"/>
                  <a:chExt cx="2133360" cy="46296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2895480" y="3663720"/>
                    <a:ext cx="2133360" cy="456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3108240" y="3657600"/>
                    <a:ext cx="17521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taques verbal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1752480" y="4114800"/>
                  <a:ext cx="2133720" cy="462960"/>
                  <a:chOff x="1752480" y="4114800"/>
                  <a:chExt cx="2133720" cy="46296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1752480" y="4120920"/>
                    <a:ext cx="2133720" cy="456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89280" y="4114800"/>
                    <a:ext cx="18219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uestionamiento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609480" y="4572000"/>
                  <a:ext cx="2133720" cy="462960"/>
                  <a:chOff x="609480" y="4572000"/>
                  <a:chExt cx="2133720" cy="46296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609480" y="4578120"/>
                    <a:ext cx="2133720" cy="456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128240" y="4572000"/>
                    <a:ext cx="11469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escuen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5092200" y="4565520"/>
                <a:ext cx="3366000" cy="463680"/>
                <a:chOff x="5092200" y="4565520"/>
                <a:chExt cx="3366000" cy="4636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5105520" y="4572000"/>
                  <a:ext cx="3352680" cy="457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092200" y="4565520"/>
                  <a:ext cx="327744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</a:rPr>
                    <a:t>CONDUCTAS DE CONFLIC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2743200" y="502920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458200" y="27432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8459640" y="2307960"/>
              <a:ext cx="29520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CONFLICTOS ORGANIZ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600200" y="137160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Inteligencia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523880" y="3352680"/>
            <a:ext cx="609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emocional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209680" y="2362320"/>
            <a:ext cx="4953240" cy="2971800"/>
            <a:chOff x="2209680" y="2362320"/>
            <a:chExt cx="4953240" cy="2971800"/>
          </a:xfrm>
        </p:grpSpPr>
        <p:sp>
          <p:nvSpPr>
            <p:cNvPr id="431" name=""/>
            <p:cNvSpPr/>
            <p:nvPr/>
          </p:nvSpPr>
          <p:spPr>
            <a:xfrm>
              <a:off x="2209680" y="2362320"/>
              <a:ext cx="4953240" cy="2971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61560" y="2509920"/>
              <a:ext cx="20019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Times New Roman"/>
                </a:rPr>
                <a:t>Los cuatro pilares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87040" y="4800600"/>
              <a:ext cx="23126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Times New Roman"/>
                </a:rPr>
                <a:t>la inteligencia emo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INTELIGENCIA EMO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-5040" y="45720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delo de cuatro pila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76320" y="768240"/>
            <a:ext cx="4190760" cy="2965680"/>
            <a:chOff x="76320" y="768240"/>
            <a:chExt cx="4190760" cy="2965680"/>
          </a:xfrm>
        </p:grpSpPr>
        <p:sp>
          <p:nvSpPr>
            <p:cNvPr id="437" name=""/>
            <p:cNvSpPr/>
            <p:nvPr/>
          </p:nvSpPr>
          <p:spPr>
            <a:xfrm>
              <a:off x="1371600" y="1600200"/>
              <a:ext cx="1752480" cy="1447920"/>
            </a:xfrm>
            <a:prstGeom prst="hexagon">
              <a:avLst>
                <a:gd name="adj" fmla="val 30259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4to pi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Alquim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emo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152280" y="844560"/>
              <a:ext cx="1523880" cy="678960"/>
              <a:chOff x="152280" y="844560"/>
              <a:chExt cx="1523880" cy="678960"/>
            </a:xfrm>
          </p:grpSpPr>
          <p:sp>
            <p:nvSpPr>
              <p:cNvPr id="439" name=""/>
              <p:cNvSpPr/>
              <p:nvPr/>
            </p:nvSpPr>
            <p:spPr>
              <a:xfrm>
                <a:off x="152280" y="914040"/>
                <a:ext cx="152388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31840" y="844560"/>
                <a:ext cx="13251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Percepción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oportun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2743200" y="768240"/>
              <a:ext cx="1523880" cy="679680"/>
              <a:chOff x="2743200" y="768240"/>
              <a:chExt cx="1523880" cy="679680"/>
            </a:xfrm>
          </p:grpSpPr>
          <p:sp>
            <p:nvSpPr>
              <p:cNvPr id="442" name=""/>
              <p:cNvSpPr/>
              <p:nvPr/>
            </p:nvSpPr>
            <p:spPr>
              <a:xfrm>
                <a:off x="2743200" y="838080"/>
                <a:ext cx="1523880" cy="6098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81160" y="768240"/>
                <a:ext cx="9763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Cre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del futur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76320" y="3048120"/>
              <a:ext cx="1532880" cy="678960"/>
              <a:chOff x="76320" y="3048120"/>
              <a:chExt cx="1532880" cy="678960"/>
            </a:xfrm>
          </p:grpSpPr>
          <p:sp>
            <p:nvSpPr>
              <p:cNvPr id="445" name=""/>
              <p:cNvSpPr/>
              <p:nvPr/>
            </p:nvSpPr>
            <p:spPr>
              <a:xfrm>
                <a:off x="76320" y="3117600"/>
                <a:ext cx="152388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1360" y="3048120"/>
                <a:ext cx="152784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Camb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tiempo reflexiv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2743200" y="3048120"/>
              <a:ext cx="1523880" cy="685800"/>
              <a:chOff x="2743200" y="3048120"/>
              <a:chExt cx="1523880" cy="685800"/>
            </a:xfrm>
          </p:grpSpPr>
          <p:sp>
            <p:nvSpPr>
              <p:cNvPr id="448" name=""/>
              <p:cNvSpPr/>
              <p:nvPr/>
            </p:nvSpPr>
            <p:spPr>
              <a:xfrm>
                <a:off x="2743200" y="3124440"/>
                <a:ext cx="152388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88440" y="3048120"/>
                <a:ext cx="87120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Fluj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intuitiv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1371600" y="15238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24080" y="144792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71640" y="3962520"/>
            <a:ext cx="4195440" cy="2968560"/>
            <a:chOff x="71640" y="3962520"/>
            <a:chExt cx="4195440" cy="2968560"/>
          </a:xfrm>
        </p:grpSpPr>
        <p:sp>
          <p:nvSpPr>
            <p:cNvPr id="453" name=""/>
            <p:cNvSpPr/>
            <p:nvPr/>
          </p:nvSpPr>
          <p:spPr>
            <a:xfrm>
              <a:off x="1371600" y="4648320"/>
              <a:ext cx="1666800" cy="1371600"/>
            </a:xfrm>
            <a:prstGeom prst="hexagon">
              <a:avLst>
                <a:gd name="adj" fmla="val 30381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3er pi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Profund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emo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76320" y="3962520"/>
              <a:ext cx="1523880" cy="677880"/>
              <a:chOff x="76320" y="3962520"/>
              <a:chExt cx="1523880" cy="677880"/>
            </a:xfrm>
          </p:grpSpPr>
          <p:sp>
            <p:nvSpPr>
              <p:cNvPr id="455" name=""/>
              <p:cNvSpPr/>
              <p:nvPr/>
            </p:nvSpPr>
            <p:spPr>
              <a:xfrm>
                <a:off x="76320" y="4016160"/>
                <a:ext cx="152388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33000" y="3962520"/>
                <a:ext cx="10159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Integr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aplicad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2743200" y="3962520"/>
              <a:ext cx="1523880" cy="677880"/>
              <a:chOff x="2743200" y="3962520"/>
              <a:chExt cx="1523880" cy="677880"/>
            </a:xfrm>
          </p:grpSpPr>
          <p:sp>
            <p:nvSpPr>
              <p:cNvPr id="458" name=""/>
              <p:cNvSpPr/>
              <p:nvPr/>
            </p:nvSpPr>
            <p:spPr>
              <a:xfrm>
                <a:off x="2743200" y="4016520"/>
                <a:ext cx="152388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883960" y="3962520"/>
                <a:ext cx="129168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Influencia s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autor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1640" y="5961240"/>
              <a:ext cx="1528560" cy="969840"/>
              <a:chOff x="71640" y="5961240"/>
              <a:chExt cx="1528560" cy="969840"/>
            </a:xfrm>
          </p:grpSpPr>
          <p:sp>
            <p:nvSpPr>
              <p:cNvPr id="461" name=""/>
              <p:cNvSpPr/>
              <p:nvPr/>
            </p:nvSpPr>
            <p:spPr>
              <a:xfrm>
                <a:off x="76320" y="6019920"/>
                <a:ext cx="1523880" cy="8380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640" y="5961240"/>
                <a:ext cx="1526400" cy="9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Cómpromiso,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Responsabil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y concienc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2743200" y="6102360"/>
              <a:ext cx="1523880" cy="678960"/>
              <a:chOff x="2743200" y="6102360"/>
              <a:chExt cx="1523880" cy="678960"/>
            </a:xfrm>
          </p:grpSpPr>
          <p:sp>
            <p:nvSpPr>
              <p:cNvPr id="464" name=""/>
              <p:cNvSpPr/>
              <p:nvPr/>
            </p:nvSpPr>
            <p:spPr>
              <a:xfrm>
                <a:off x="2743200" y="6171840"/>
                <a:ext cx="152388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880720" y="6102360"/>
                <a:ext cx="13831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Potencia ún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y propósi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1371600" y="46483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481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105520" y="838080"/>
            <a:ext cx="4033440" cy="2887920"/>
            <a:chOff x="5105520" y="838080"/>
            <a:chExt cx="4033440" cy="2887920"/>
          </a:xfrm>
        </p:grpSpPr>
        <p:sp>
          <p:nvSpPr>
            <p:cNvPr id="469" name=""/>
            <p:cNvSpPr/>
            <p:nvPr/>
          </p:nvSpPr>
          <p:spPr>
            <a:xfrm>
              <a:off x="6172200" y="1676520"/>
              <a:ext cx="1752480" cy="1371600"/>
            </a:xfrm>
            <a:prstGeom prst="hexagon">
              <a:avLst>
                <a:gd name="adj" fmla="val 31942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1er pi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onoc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emo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105520" y="838080"/>
              <a:ext cx="1523880" cy="677880"/>
              <a:chOff x="5105520" y="838080"/>
              <a:chExt cx="1523880" cy="677880"/>
            </a:xfrm>
          </p:grpSpPr>
          <p:sp>
            <p:nvSpPr>
              <p:cNvPr id="471" name=""/>
              <p:cNvSpPr/>
              <p:nvPr/>
            </p:nvSpPr>
            <p:spPr>
              <a:xfrm>
                <a:off x="5105520" y="892080"/>
                <a:ext cx="1523880" cy="6098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15040" y="838080"/>
                <a:ext cx="11073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Honestida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emocio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7467480" y="844560"/>
              <a:ext cx="1523880" cy="677880"/>
              <a:chOff x="7467480" y="844560"/>
              <a:chExt cx="1523880" cy="67788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898200"/>
                <a:ext cx="152388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719840" y="844560"/>
                <a:ext cx="10267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Energí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emocio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5105520" y="3048120"/>
              <a:ext cx="1523880" cy="677880"/>
              <a:chOff x="5105520" y="3048120"/>
              <a:chExt cx="1523880" cy="677880"/>
            </a:xfrm>
          </p:grpSpPr>
          <p:sp>
            <p:nvSpPr>
              <p:cNvPr id="477" name=""/>
              <p:cNvSpPr/>
              <p:nvPr/>
            </p:nvSpPr>
            <p:spPr>
              <a:xfrm>
                <a:off x="5105520" y="3102120"/>
                <a:ext cx="152388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487480" y="3048120"/>
                <a:ext cx="91512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Intui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áctic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7483320" y="3048120"/>
              <a:ext cx="1655640" cy="677880"/>
              <a:chOff x="7483320" y="3048120"/>
              <a:chExt cx="1655640" cy="677880"/>
            </a:xfrm>
          </p:grpSpPr>
          <p:sp>
            <p:nvSpPr>
              <p:cNvPr id="480" name=""/>
              <p:cNvSpPr/>
              <p:nvPr/>
            </p:nvSpPr>
            <p:spPr>
              <a:xfrm>
                <a:off x="7483320" y="3101760"/>
                <a:ext cx="152388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515000" y="3048120"/>
                <a:ext cx="16239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Retroinform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emocio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6172200" y="15238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924680" y="152388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181480" y="3962520"/>
            <a:ext cx="3810240" cy="2817720"/>
            <a:chOff x="5181480" y="3962520"/>
            <a:chExt cx="3810240" cy="2817720"/>
          </a:xfrm>
        </p:grpSpPr>
        <p:sp>
          <p:nvSpPr>
            <p:cNvPr id="485" name=""/>
            <p:cNvSpPr/>
            <p:nvPr/>
          </p:nvSpPr>
          <p:spPr>
            <a:xfrm>
              <a:off x="6324480" y="4724280"/>
              <a:ext cx="1752840" cy="1371600"/>
            </a:xfrm>
            <a:prstGeom prst="hexagon">
              <a:avLst>
                <a:gd name="adj" fmla="val 31949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2do pi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Aptit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emo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5181480" y="3962520"/>
              <a:ext cx="1523880" cy="677880"/>
              <a:chOff x="5181480" y="3962520"/>
              <a:chExt cx="1523880" cy="677880"/>
            </a:xfrm>
          </p:grpSpPr>
          <p:sp>
            <p:nvSpPr>
              <p:cNvPr id="487" name=""/>
              <p:cNvSpPr/>
              <p:nvPr/>
            </p:nvSpPr>
            <p:spPr>
              <a:xfrm>
                <a:off x="5181480" y="4016520"/>
                <a:ext cx="152388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69120" y="3962520"/>
                <a:ext cx="9579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Presenc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auténtic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81480" y="6095880"/>
              <a:ext cx="1524240" cy="677880"/>
              <a:chOff x="5181480" y="6095880"/>
              <a:chExt cx="1524240" cy="677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181480" y="6149880"/>
                <a:ext cx="152424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44200" y="6095880"/>
                <a:ext cx="120348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Flexibidad 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renovació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467480" y="6102360"/>
              <a:ext cx="1523880" cy="677880"/>
              <a:chOff x="7467480" y="6102360"/>
              <a:chExt cx="1523880" cy="677880"/>
            </a:xfrm>
          </p:grpSpPr>
          <p:sp>
            <p:nvSpPr>
              <p:cNvPr id="493" name=""/>
              <p:cNvSpPr/>
              <p:nvPr/>
            </p:nvSpPr>
            <p:spPr>
              <a:xfrm>
                <a:off x="7467480" y="6156000"/>
                <a:ext cx="152388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709400" y="6102360"/>
                <a:ext cx="119736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Desconten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nstructiv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7467480" y="3968640"/>
              <a:ext cx="1524240" cy="677880"/>
              <a:chOff x="7467480" y="3968640"/>
              <a:chExt cx="1524240" cy="677880"/>
            </a:xfrm>
          </p:grpSpPr>
          <p:sp>
            <p:nvSpPr>
              <p:cNvPr id="496" name=""/>
              <p:cNvSpPr/>
              <p:nvPr/>
            </p:nvSpPr>
            <p:spPr>
              <a:xfrm>
                <a:off x="7467480" y="4022640"/>
                <a:ext cx="152424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789680" y="3968640"/>
                <a:ext cx="970200" cy="67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Radio 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Times New Roman"/>
                  </a:rPr>
                  <a:t>confianz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632448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077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2057400" y="137160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Gestión d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066680" y="3886200"/>
            <a:ext cx="647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Recursos Humano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0840" y="5335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unciones de la  administración de pers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762120"/>
            <a:ext cx="56408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presentar a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álisis de la orga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genciar el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otivación y concient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sejería perman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ediar en confli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olucionar 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omover el biene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pecialista en relaciones hum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tilo pro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-152280"/>
            <a:ext cx="9144000" cy="532800"/>
            <a:chOff x="0" y="-152280"/>
            <a:chExt cx="9144000" cy="532800"/>
          </a:xfrm>
        </p:grpSpPr>
        <p:sp>
          <p:nvSpPr>
            <p:cNvPr id="93" name=""/>
            <p:cNvSpPr/>
            <p:nvPr/>
          </p:nvSpPr>
          <p:spPr>
            <a:xfrm>
              <a:off x="0" y="-58680"/>
              <a:ext cx="9144000" cy="396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82640" y="-152280"/>
              <a:ext cx="54673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c0c0c0"/>
                  </a:solidFill>
                  <a:latin typeface="Times New Roman"/>
                </a:rPr>
                <a:t>GESTION DE RECURSOS HUMA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828800" y="137160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Análisis d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828800" y="365760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puesto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561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ANALISIS DE 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1600" y="457200"/>
            <a:ext cx="88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s importante porque proporciona la base para el establecimiento y reevaluación 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60" y="762120"/>
            <a:ext cx="9324720" cy="61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ructura de la organizació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ivisión de tareas dela orga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ructura de los puestos de trabaj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grupación de lo 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ado de autoridad:  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istribución de la autoridad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lcance de control:  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laciones de ependencia jerárquic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riterios de rendimiento: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ara la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Redundancia de empleados:  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ara reducción de planti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nsejo:  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guía para los supervisores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7520" y="762120"/>
            <a:ext cx="29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caba información sob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6320" y="2590920"/>
            <a:ext cx="1371600" cy="642600"/>
            <a:chOff x="76320" y="2590920"/>
            <a:chExt cx="1371600" cy="642600"/>
          </a:xfrm>
        </p:grpSpPr>
        <p:sp>
          <p:nvSpPr>
            <p:cNvPr id="105" name=""/>
            <p:cNvSpPr/>
            <p:nvPr/>
          </p:nvSpPr>
          <p:spPr>
            <a:xfrm>
              <a:off x="76320" y="2666880"/>
              <a:ext cx="1371600" cy="533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9680" y="2590920"/>
              <a:ext cx="113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del car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76520" y="1371600"/>
            <a:ext cx="2151720" cy="3656880"/>
            <a:chOff x="1676520" y="1371600"/>
            <a:chExt cx="2151720" cy="3656880"/>
          </a:xfrm>
        </p:grpSpPr>
        <p:grpSp>
          <p:nvGrpSpPr>
            <p:cNvPr id="108" name=""/>
            <p:cNvGrpSpPr/>
            <p:nvPr/>
          </p:nvGrpSpPr>
          <p:grpSpPr>
            <a:xfrm>
              <a:off x="2082240" y="1371600"/>
              <a:ext cx="1746000" cy="3656880"/>
              <a:chOff x="2082240" y="1371600"/>
              <a:chExt cx="1746000" cy="3656880"/>
            </a:xfrm>
          </p:grpSpPr>
          <p:sp>
            <p:nvSpPr>
              <p:cNvPr id="109" name=""/>
              <p:cNvSpPr/>
              <p:nvPr/>
            </p:nvSpPr>
            <p:spPr>
              <a:xfrm>
                <a:off x="2172960" y="1464840"/>
                <a:ext cx="1655280" cy="3563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82240" y="1371600"/>
                <a:ext cx="1730520" cy="31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Times New Roman"/>
                  </a:rPr>
                  <a:t>Lo que h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Times New Roman"/>
                  </a:rPr>
                  <a:t>¿Cuándo hace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Times New Roman"/>
                  </a:rPr>
                  <a:t>¿Cómo hace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Times New Roman"/>
                  </a:rPr>
                  <a:t>¿Dónde hace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Times New Roman"/>
                  </a:rPr>
                  <a:t>¿Por qué hace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676520" y="2621160"/>
              <a:ext cx="413640" cy="508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76840" y="2286000"/>
            <a:ext cx="5035320" cy="457200"/>
            <a:chOff x="3876840" y="2286000"/>
            <a:chExt cx="5035320" cy="457200"/>
          </a:xfrm>
        </p:grpSpPr>
        <p:grpSp>
          <p:nvGrpSpPr>
            <p:cNvPr id="113" name=""/>
            <p:cNvGrpSpPr/>
            <p:nvPr/>
          </p:nvGrpSpPr>
          <p:grpSpPr>
            <a:xfrm>
              <a:off x="4487040" y="2286000"/>
              <a:ext cx="4425120" cy="457200"/>
              <a:chOff x="4487040" y="2286000"/>
              <a:chExt cx="4425120" cy="457200"/>
            </a:xfrm>
          </p:grpSpPr>
          <p:sp>
            <p:nvSpPr>
              <p:cNvPr id="114" name=""/>
              <p:cNvSpPr/>
              <p:nvPr/>
            </p:nvSpPr>
            <p:spPr>
              <a:xfrm>
                <a:off x="4562640" y="2286000"/>
                <a:ext cx="4343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7040" y="2300400"/>
                <a:ext cx="442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Periodicidad (diaria, semanal, mensua, anual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876840" y="2514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876840" y="2895480"/>
            <a:ext cx="5029200" cy="457200"/>
            <a:chOff x="3876840" y="2895480"/>
            <a:chExt cx="5029200" cy="457200"/>
          </a:xfrm>
        </p:grpSpPr>
        <p:grpSp>
          <p:nvGrpSpPr>
            <p:cNvPr id="118" name=""/>
            <p:cNvGrpSpPr/>
            <p:nvPr/>
          </p:nvGrpSpPr>
          <p:grpSpPr>
            <a:xfrm>
              <a:off x="4562640" y="2895480"/>
              <a:ext cx="4343400" cy="457200"/>
              <a:chOff x="4562640" y="2895480"/>
              <a:chExt cx="434340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4562640" y="2895480"/>
                <a:ext cx="4343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27920" y="2933640"/>
                <a:ext cx="27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Personas, máquinas, datos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876840" y="30477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876840" y="3505320"/>
            <a:ext cx="5029200" cy="457200"/>
            <a:chOff x="3876840" y="3505320"/>
            <a:chExt cx="5029200" cy="457200"/>
          </a:xfrm>
        </p:grpSpPr>
        <p:grpSp>
          <p:nvGrpSpPr>
            <p:cNvPr id="123" name=""/>
            <p:cNvGrpSpPr/>
            <p:nvPr/>
          </p:nvGrpSpPr>
          <p:grpSpPr>
            <a:xfrm>
              <a:off x="4562640" y="3505320"/>
              <a:ext cx="4343400" cy="457200"/>
              <a:chOff x="4562640" y="3505320"/>
              <a:chExt cx="4343400" cy="457200"/>
            </a:xfrm>
          </p:grpSpPr>
          <p:sp>
            <p:nvSpPr>
              <p:cNvPr id="124" name=""/>
              <p:cNvSpPr/>
              <p:nvPr/>
            </p:nvSpPr>
            <p:spPr>
              <a:xfrm>
                <a:off x="4562640" y="3505320"/>
                <a:ext cx="4343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213880" y="3543480"/>
                <a:ext cx="300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Ambiente de trabajo / posi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876840" y="35816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876840" y="4267080"/>
            <a:ext cx="5029200" cy="457200"/>
            <a:chOff x="3876840" y="4267080"/>
            <a:chExt cx="5029200" cy="457200"/>
          </a:xfrm>
        </p:grpSpPr>
        <p:grpSp>
          <p:nvGrpSpPr>
            <p:cNvPr id="128" name=""/>
            <p:cNvGrpSpPr/>
            <p:nvPr/>
          </p:nvGrpSpPr>
          <p:grpSpPr>
            <a:xfrm>
              <a:off x="4562640" y="4267080"/>
              <a:ext cx="4343400" cy="457200"/>
              <a:chOff x="4562640" y="4267080"/>
              <a:chExt cx="4343400" cy="457200"/>
            </a:xfrm>
          </p:grpSpPr>
          <p:sp>
            <p:nvSpPr>
              <p:cNvPr id="129" name=""/>
              <p:cNvSpPr/>
              <p:nvPr/>
            </p:nvSpPr>
            <p:spPr>
              <a:xfrm>
                <a:off x="4562640" y="4267080"/>
                <a:ext cx="4343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04960" y="4281480"/>
                <a:ext cx="276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Logros, aportes o resulta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876840" y="4343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886200" y="1600200"/>
            <a:ext cx="5029200" cy="457200"/>
            <a:chOff x="3886200" y="1600200"/>
            <a:chExt cx="5029200" cy="457200"/>
          </a:xfrm>
        </p:grpSpPr>
        <p:grpSp>
          <p:nvGrpSpPr>
            <p:cNvPr id="133" name=""/>
            <p:cNvGrpSpPr/>
            <p:nvPr/>
          </p:nvGrpSpPr>
          <p:grpSpPr>
            <a:xfrm>
              <a:off x="4572000" y="1600200"/>
              <a:ext cx="4343400" cy="457200"/>
              <a:chOff x="4572000" y="1600200"/>
              <a:chExt cx="4343400" cy="457200"/>
            </a:xfrm>
          </p:grpSpPr>
          <p:sp>
            <p:nvSpPr>
              <p:cNvPr id="134" name=""/>
              <p:cNvSpPr/>
              <p:nvPr/>
            </p:nvSpPr>
            <p:spPr>
              <a:xfrm>
                <a:off x="4572000" y="1600200"/>
                <a:ext cx="434340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19840" y="1600200"/>
                <a:ext cx="328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Tareas, actividades o atribuci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886200" y="1828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ANALISIS DE 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61400" y="6156360"/>
            <a:ext cx="752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Factores que constituyen características diferenciales de cada car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560" y="533520"/>
            <a:ext cx="8458560" cy="5562360"/>
            <a:chOff x="304560" y="533520"/>
            <a:chExt cx="8458560" cy="5562360"/>
          </a:xfrm>
        </p:grpSpPr>
        <p:sp>
          <p:nvSpPr>
            <p:cNvPr id="142" name=""/>
            <p:cNvSpPr/>
            <p:nvPr/>
          </p:nvSpPr>
          <p:spPr>
            <a:xfrm>
              <a:off x="304920" y="533520"/>
              <a:ext cx="8458200" cy="5562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7920" y="1676520"/>
              <a:ext cx="6324480" cy="36576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657600" y="2895480"/>
              <a:ext cx="1905120" cy="1069200"/>
              <a:chOff x="3657600" y="2895480"/>
              <a:chExt cx="1905120" cy="1069200"/>
            </a:xfrm>
          </p:grpSpPr>
          <p:sp>
            <p:nvSpPr>
              <p:cNvPr id="145" name=""/>
              <p:cNvSpPr/>
              <p:nvPr/>
            </p:nvSpPr>
            <p:spPr>
              <a:xfrm>
                <a:off x="3657600" y="2895480"/>
                <a:ext cx="1905120" cy="106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066920" y="2955960"/>
                <a:ext cx="11149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imes New Roman"/>
                  </a:rPr>
                  <a:t>Facto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imes New Roman"/>
                  </a:rPr>
                  <a:t>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Times New Roman"/>
                  </a:rPr>
                  <a:t>trabaj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562720" y="3352680"/>
              <a:ext cx="320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8320" y="3962520"/>
              <a:ext cx="0" cy="21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181480" y="1828440"/>
              <a:ext cx="762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200400" y="1828440"/>
              <a:ext cx="8380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61720" y="21178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Experi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72960" y="280368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Edu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70160" y="2819520"/>
              <a:ext cx="114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Iniciati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752120" y="3733920"/>
              <a:ext cx="205740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0840" y="1050840"/>
              <a:ext cx="22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Requisitos ment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662400">
              <a:off x="2874960" y="539388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Esfuerz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536600">
              <a:off x="6215040" y="4800240"/>
              <a:ext cx="186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Responsabil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3383400">
              <a:off x="579240" y="3989880"/>
              <a:ext cx="136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condic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76160" y="3581280"/>
              <a:ext cx="19810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1178200">
              <a:off x="1913040" y="3443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Riesg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793400">
              <a:off x="2115720" y="3962520"/>
              <a:ext cx="10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Ambi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labo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124080" y="3886200"/>
              <a:ext cx="914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038120" y="3886200"/>
              <a:ext cx="2286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8321600">
              <a:off x="2800080" y="445500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Fí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7170200">
              <a:off x="3420720" y="462564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Vis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044600">
              <a:off x="3960360" y="465732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Men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2720" y="3581280"/>
              <a:ext cx="2209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3733920"/>
              <a:ext cx="1676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81480" y="3886200"/>
              <a:ext cx="83844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76920" y="396252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069400">
              <a:off x="4269960" y="4568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Superviso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411800">
              <a:off x="5867640" y="3777840"/>
              <a:ext cx="157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Equipo-val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herramien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563800">
              <a:off x="5556240" y="4235400"/>
              <a:ext cx="114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Materi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pers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4165800">
              <a:off x="4921560" y="445068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Infor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regist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4400">
              <a:off x="6318000" y="3244320"/>
              <a:ext cx="150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Infor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onfidenci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04560" y="335268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" name="BS02064_" descr=""/>
          <p:cNvPicPr/>
          <p:nvPr/>
        </p:nvPicPr>
        <p:blipFill>
          <a:blip r:embed="rId2"/>
          <a:stretch/>
        </p:blipFill>
        <p:spPr>
          <a:xfrm>
            <a:off x="31680" y="5145120"/>
            <a:ext cx="1720800" cy="1712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0c0c0"/>
                </a:solidFill>
                <a:latin typeface="Times New Roman"/>
              </a:rPr>
              <a:t>ANALISIS DE 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371600"/>
            <a:ext cx="5105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Selección d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342900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personal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461280"/>
            <a:ext cx="9144000" cy="39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8T11:43:20Z</dcterms:created>
  <dc:creator>HERNAN</dc:creator>
  <dc:description/>
  <dc:language>en-US</dc:language>
  <cp:lastModifiedBy>GUILLERMO PEREYRA</cp:lastModifiedBy>
  <dcterms:modified xsi:type="dcterms:W3CDTF">2000-11-05T15:44:36Z</dcterms:modified>
  <cp:revision>46</cp:revision>
  <dc:subject/>
  <dc:title>Presentación de PowerPoint</dc:title>
</cp:coreProperties>
</file>